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2D3-F09C-4C06-9631-98F68C31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CDE-2C61-4B07-9138-1798D409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BE1-BC04-428A-8989-74E73D1C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952-39C9-42C8-814C-F50853D9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418-1ED0-443E-ACF2-19C4F28C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92A-47BC-49B7-B657-2C1A4495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785-BFBF-4A6D-BCAD-0EB0BA4C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513-26DD-4949-8ECC-1CCF592E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DD5-7CC0-4E7E-96B4-4CF8296A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A36-76EA-4C3A-8C30-170C9D4A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677-F1B8-48F4-8A11-8FA542F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0D2-370D-4966-879D-7323231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D393-FF8D-45FC-B33A-3EEF7C020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395280" y="213372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ИНОКИСЕЛИНЕ И БИОАКТИВНИ ПЕПТИДИ. ПРОБИОТИЦИ, ПРЕБИОТИЦИ И СИМБИОТИЦИ. ЕНЗИМИ И КОЕНЗИМИ. ЕСЕНЦИЈАЛНЕ МАСНЕ КИСЕЛИНЕ. БИЉНИ ХОРМОНИ. ФИТОСТЕРОЛИ И ФИТОСТАН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15" descr=""/>
          <p:cNvPicPr/>
          <p:nvPr/>
        </p:nvPicPr>
        <p:blipFill>
          <a:blip r:embed="rId1"/>
          <a:stretch/>
        </p:blipFill>
        <p:spPr>
          <a:xfrm>
            <a:off x="8096400" y="1176480"/>
            <a:ext cx="749160" cy="442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Резултат слика за logo fakulteta medicinskih nauka"/>
          <p:cNvPicPr/>
          <p:nvPr/>
        </p:nvPicPr>
        <p:blipFill>
          <a:blip r:embed="rId2"/>
          <a:stretch/>
        </p:blipFill>
        <p:spPr>
          <a:xfrm>
            <a:off x="7380360" y="9360"/>
            <a:ext cx="176364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Резултат слика за logo univerziteta u kragujevcu"/>
          <p:cNvPicPr/>
          <p:nvPr/>
        </p:nvPicPr>
        <p:blipFill>
          <a:blip r:embed="rId3"/>
          <a:stretch/>
        </p:blipFill>
        <p:spPr>
          <a:xfrm>
            <a:off x="7380360" y="5589720"/>
            <a:ext cx="1763640" cy="1268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692360" y="5877000"/>
            <a:ext cx="56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ц. др Душан Љ. Том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: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9-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омат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3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14"/>
          <p:cNvSpPr/>
          <p:nvPr/>
        </p:nvSpPr>
        <p:spPr>
          <a:xfrm>
            <a:off x="468360" y="1557360"/>
            <a:ext cx="83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секреције мук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ецифична стимулација имуног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ферација имуних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фагоцитне активности макроф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стварањ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 и Ig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ција пропустљивости цревне бариј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4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14"/>
          <p:cNvSpPr/>
          <p:nvPr/>
        </p:nvSpPr>
        <p:spPr>
          <a:xfrm>
            <a:off x="468360" y="191628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cus termophil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fidobacteriac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СЦ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boular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5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14"/>
          <p:cNvSpPr/>
          <p:nvPr/>
        </p:nvSpPr>
        <p:spPr>
          <a:xfrm>
            <a:off x="468360" y="1484280"/>
            <a:ext cx="835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биотских кул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секв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култив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и понашање коло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 да пробиотски организми имају одређен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тепен резистенције на желудачну и жуч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адхеренције за цревну мук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редукције патогених сојева бакт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11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6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4"/>
          <p:cNvSpPr/>
          <p:nvPr/>
        </p:nvSpPr>
        <p:spPr>
          <a:xfrm>
            <a:off x="468360" y="191628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ада нема доказа да употреба пробиотика смањује ризи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д настанка Кронове болести, хроничног иритабилног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олона, малигних болести дебелог црева, бактеријских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гљивичних инфекција генитоуринарног систем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који садрже пробиотске микроорганизме →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7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14"/>
          <p:cNvSpPr/>
          <p:nvPr/>
        </p:nvSpPr>
        <p:spPr>
          <a:xfrm>
            <a:off x="468360" y="1557360"/>
            <a:ext cx="8351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биотици су састојци хране који не подлежу процес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дигестије и апсорпције, већ подлежу процесу ферментациј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у дебелом цре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авају позитиван учинак на здравље тако шт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елективно стимулишу раст активност једне и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граниченог броја бактерија које живе у дебелом цре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8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14"/>
          <p:cNvSpPr/>
          <p:nvPr/>
        </p:nvSpPr>
        <p:spPr>
          <a:xfrm>
            <a:off x="468360" y="1557360"/>
            <a:ext cx="8351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биотици побољшавају састав цревне микрофлор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обољшавају апсорпцију минерала, повећавају енергетс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омет, унапређују интестиналне функције, стабилиш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цревну баријер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пребиотика која се налази на тржишту с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лигосахариди и недигестибилни полисахар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проучени: фруктоолигосахариди, инулин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галактоолигосахар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9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14"/>
          <p:cNvSpPr/>
          <p:nvPr/>
        </p:nvSpPr>
        <p:spPr>
          <a:xfrm>
            <a:off x="324000" y="1557360"/>
            <a:ext cx="849600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биотици су производи који садрже пробиотике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ебио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 пребиотика пробиотику омогућава дуж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пстанак пробиотика у дигестивном тракту и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лакшан приступ епите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0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14"/>
          <p:cNvSpPr/>
          <p:nvPr/>
        </p:nvSpPr>
        <p:spPr>
          <a:xfrm>
            <a:off x="468360" y="1557360"/>
            <a:ext cx="83516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, сир, вино, сирће и поједини месни производи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оизводи добијени употребом ен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у хуманој 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ео производи људски организам а део се обезбеђуј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з хране. Употреба сумплемената који садрже коензим 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    </a:t>
            </a:r>
            <a:br>
              <a:rPr sz="2400"/>
            </a:b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широко распрострањ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1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14"/>
          <p:cNvSpPr/>
          <p:nvPr/>
        </p:nvSpPr>
        <p:spPr>
          <a:xfrm>
            <a:off x="468360" y="1916280"/>
            <a:ext cx="8351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препарата ензима и коен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ni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алактозид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oryza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милаза, лактаза, лип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aromyces cerevisia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верт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зими папаје и анан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2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Box 14"/>
          <p:cNvSpPr/>
          <p:nvPr/>
        </p:nvSpPr>
        <p:spPr>
          <a:xfrm>
            <a:off x="468360" y="1557360"/>
            <a:ext cx="83516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е масне киселине су полинезасићене масн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иселине које људски организам не може да ствара јер н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оседује потребне ензиме који би деловали на засићене вез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змеђу угљеникових атома масних киселина које се налаз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 Ω3 и Ω6 полож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6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ол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хидонска кисе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3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-линоленска кисе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5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24"/>
          <p:cNvSpPr/>
          <p:nvPr/>
        </p:nvSpPr>
        <p:spPr>
          <a:xfrm>
            <a:off x="468360" y="2522520"/>
            <a:ext cx="813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ЈА ЗА ХРАНУ И ПОЉОПРИВРЕДУ УЈЕДИЊЕНИХ НАЦИЈ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иоактивни састојци, контаминенти и прехрамбени адити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СВЕТСКА ЗДРАВСТВЕНА ОРГАНИЗАЦИЈ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есенцијални састојци намирница биљног, животињског и синтетског порекла чије уношење није неопход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3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Box 14"/>
          <p:cNvSpPr/>
          <p:nvPr/>
        </p:nvSpPr>
        <p:spPr>
          <a:xfrm>
            <a:off x="468360" y="1557360"/>
            <a:ext cx="835164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хидонск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 се синтетише а делом уноси хр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урсор је еикосаноида и ткивних хор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сањем настају простациклини који делуј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азодилататорно и умањују склоност тромбоцита 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грег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арахидонске киселине синтетише се цитохром Р450 кој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чествује у биотрансформацији великог броја ксенобио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4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14"/>
          <p:cNvSpPr/>
          <p:nvPr/>
        </p:nvSpPr>
        <p:spPr>
          <a:xfrm>
            <a:off x="179280" y="1981080"/>
            <a:ext cx="87854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људском телу из Ω3 α-линоленске киселине елонгациј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е могу синтетисати еикозапентаенске (С20:5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докозапентаенске (С22:5) и докозахексаенск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иселине (С22: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 полинезасићених масних киселина у количини која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евазилази толеришући дневни унос → повећа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ероксидација липида, продужено време крварења 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5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4"/>
          <p:cNvSpPr/>
          <p:nvPr/>
        </p:nvSpPr>
        <p:spPr>
          <a:xfrm>
            <a:off x="179280" y="1484280"/>
            <a:ext cx="8785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хормони представљају медијаторе у пренос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нформације између спољашње средине и ћел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 су у веома ниским концентрацијама и имај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пецифични физиолошки ефе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ће зависи од баланса биљних хормона/регулатора раста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њиховог истовременог или сукцесивног деловања у дат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тки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6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14"/>
          <p:cNvSpPr/>
          <p:nvPr/>
        </p:nvSpPr>
        <p:spPr>
          <a:xfrm>
            <a:off x="179280" y="1413000"/>
            <a:ext cx="8785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хормони са стимулативним деловањ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ксини – раст и издуживање биљ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кинини – регулација ћелијских де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ерелин – издуживање интактних биљ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хормони са инхибиторним деловањ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цисинска киселина и сродна једињења – хормон стрес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су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 – саздевање пло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Group 64" descr=""/>
          <p:cNvPicPr/>
          <p:nvPr/>
        </p:nvPicPr>
        <p:blipFill>
          <a:blip r:embed="rId1"/>
          <a:stretch/>
        </p:blipFill>
        <p:spPr>
          <a:xfrm>
            <a:off x="3524400" y="171360"/>
            <a:ext cx="5497200" cy="9018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7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14"/>
          <p:cNvSpPr/>
          <p:nvPr/>
        </p:nvSpPr>
        <p:spPr>
          <a:xfrm>
            <a:off x="179280" y="1125360"/>
            <a:ext cx="878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група једињења која се налазе искључиво у биљк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оидне структуре (од холестерола се разликују по структур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очног лан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представни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остер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остан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пестер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пестан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гмастерол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икастер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Group 64" descr=""/>
          <p:cNvPicPr/>
          <p:nvPr/>
        </p:nvPicPr>
        <p:blipFill>
          <a:blip r:embed="rId1"/>
          <a:stretch/>
        </p:blipFill>
        <p:spPr>
          <a:xfrm>
            <a:off x="3524400" y="171360"/>
            <a:ext cx="5497200" cy="90180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8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Box 14"/>
          <p:cNvSpPr/>
          <p:nvPr/>
        </p:nvSpPr>
        <p:spPr>
          <a:xfrm>
            <a:off x="179280" y="1484280"/>
            <a:ext cx="87854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остероли се могу изоловати из биљних уља (сојино уљ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уље репице, сунцокретово уље, кукурузно уље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изацијом фитостерола добијају се фитостан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остероли и фитостаноли, у слободном и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естерификованом облику, додају се храни због њихов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војстава како би смањили апсорпцију холестерола у цре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9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14"/>
          <p:cNvSpPr/>
          <p:nvPr/>
        </p:nvSpPr>
        <p:spPr>
          <a:xfrm>
            <a:off x="179280" y="1484280"/>
            <a:ext cx="878544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 ПРИМАРНОГ МЕТАБО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римарним метаболизмом биљака, гљива и фотосинтетс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ктивних алги које се користе у људској исхрани, сматрају с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оцеси фотосинтезе и касније трансформације настал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глукозе до полисахарида и формирања аминокиселина д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ептида и масних киселина до лип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ивна једињења → раст, развој, функционисање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репродукција живих 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0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Box 14"/>
          <p:cNvSpPr/>
          <p:nvPr/>
        </p:nvSpPr>
        <p:spPr>
          <a:xfrm>
            <a:off x="179280" y="981000"/>
            <a:ext cx="878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 и проте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розелена алга спирулина (метионин, цистеин, лиз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 гљива (есенцијалне аминокиселине - лизин, леуц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један биљни извор не садржи све есенцијалне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аминокисе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лук (глутаминска и аспарагинска киселина, серин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ланин, глицин, валин, леуцин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а – замена за протеине анималног порекла (одсуств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етион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1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Box 14"/>
          <p:cNvSpPr/>
          <p:nvPr/>
        </p:nvSpPr>
        <p:spPr>
          <a:xfrm>
            <a:off x="179280" y="98100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начајнији су угљени хидрати присутни у гљив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 у биљкама - глукоза, фруктоза (воће), скроб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плод житарица, кртоле биљака - кромпи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лук (фрукт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и (семе лана, дуње и боквице, бели слез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2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14"/>
          <p:cNvSpPr/>
          <p:nvPr/>
        </p:nvSpPr>
        <p:spPr>
          <a:xfrm>
            <a:off x="179280" y="98100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е мас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опља – редак извор γ-линоленск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ан однос ω-3 и ω-6 масних киселина је 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: семе лана, маслиново, сусамово, палмино у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6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24"/>
          <p:cNvSpPr/>
          <p:nvPr/>
        </p:nvSpPr>
        <p:spPr>
          <a:xfrm>
            <a:off x="395280" y="2421000"/>
            <a:ext cx="81360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НКЦИОНАЛНА ХРА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ска комисија у сарадњи са Генералним директоратом за научно-истраживачку делатност за област х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која има повољан утицај на једну или више физиолошких функција битних за побољшање здравља и/или смањење ризика за развој болести који се не може постићи само адекватним уносом свих потребних нутријена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3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3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Box 14"/>
          <p:cNvSpPr/>
          <p:nvPr/>
        </p:nvSpPr>
        <p:spPr>
          <a:xfrm>
            <a:off x="179280" y="1268280"/>
            <a:ext cx="8785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метаболизам је повезан са катаболизмом и/и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трансформацијом молекула угљених хидрата, аминокисели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ли масних кисел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 једињења се дефинишу као секундарни метаболити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еома су разноврсне хемијске природе. Највећи број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екундарних метаболита показује и шири спектар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фармаколошких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секундарног метаболизма се само донекле могу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генерализовати, јер се не одвијају истим механизмом у сви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биљк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4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14"/>
          <p:cNvSpPr/>
          <p:nvPr/>
        </p:nvSpPr>
        <p:spPr>
          <a:xfrm>
            <a:off x="179280" y="1125360"/>
            <a:ext cx="878544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н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 спектар једињења чија је заједничка карактеристика д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мају ароматични прстен који као супституенте има једну и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ише хидроксилних гр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шећерима граде ГЛИКОЗ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у у биљној ћелији у облику гликозида лоцирани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цитоплазми и вакуолама, а слободни (у облику агликона) на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овршини биљних орг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оксидују у хин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5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14"/>
          <p:cNvSpPr/>
          <p:nvPr/>
        </p:nvSpPr>
        <p:spPr>
          <a:xfrm>
            <a:off x="179280" y="1052640"/>
            <a:ext cx="878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н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фено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и фено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еноли, фенолне киселине, кумарин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нафтохинони, флавоноиди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нани и неолигна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мерна фенолна једиње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флавоноид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меризовани флаво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 фено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нини, лигн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на једињења су од великог значаја и као ћелијс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отпорни материј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а фенолна једињења са аспекта терапије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функционалне хране су флавоноиди (изофлавони, антоција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6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Box 14"/>
          <p:cNvSpPr/>
          <p:nvPr/>
        </p:nvSpPr>
        <p:spPr>
          <a:xfrm>
            <a:off x="179280" y="981000"/>
            <a:ext cx="8785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он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 активне материје, у контакту са водом дај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обилну п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ом се ослобађа шећер и агликонска компонента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апоге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у биљкама огледа се у заштити од различит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бактеријских и фунгалних 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ражујуће делују на слузницу респираторног система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желу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сапонина: јагорчевина, бршљан, дивљи кестен, не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7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14"/>
          <p:cNvSpPr/>
          <p:nvPr/>
        </p:nvSpPr>
        <p:spPr>
          <a:xfrm>
            <a:off x="179280" y="1249200"/>
            <a:ext cx="8785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рска у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вине липофилних, течних, испарљивих компон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а примена: зачи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но, рузмарин, ким, ванил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цим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иродни адитиви, коригенси укуса и ми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8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14"/>
          <p:cNvSpPr/>
          <p:nvPr/>
        </p:nvSpPr>
        <p:spPr>
          <a:xfrm>
            <a:off x="179280" y="981000"/>
            <a:ext cx="8964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рска у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терпени (ментол и ментон из нане, тимол из тимија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квитерпени (бисаболол из камили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фатичне и ароматичне испарљиве компонен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риват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бензоеве киселине-ванилин и метил салицил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садрже аз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лифатични ам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садрже сумпо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ргански дисулфиди белог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црног лу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9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9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Box 14"/>
          <p:cNvSpPr/>
          <p:nvPr/>
        </p:nvSpPr>
        <p:spPr>
          <a:xfrm>
            <a:off x="179280" y="1268280"/>
            <a:ext cx="87854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терпенски гликозиди, специфичан горак у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ешују лучење пљувачке, гастричних сокова, варење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псорпцију хранљивих ма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иридоида: линцура, кич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40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14"/>
          <p:cNvSpPr/>
          <p:nvPr/>
        </p:nvSpPr>
        <p:spPr>
          <a:xfrm>
            <a:off x="179280" y="131436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а органска једињења више или мање базног к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алкалоиди, псеудоалкал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ито јака физиолошка дел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, леталан исход (колхицин, аконитин, тубокура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41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Box 14"/>
          <p:cNvSpPr/>
          <p:nvPr/>
        </p:nvSpPr>
        <p:spPr>
          <a:xfrm>
            <a:off x="179280" y="131436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тонични гликоз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а једињења, леталан ис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стероидне 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ке које садрже ову групу једињења (пустикара, ђурђева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лијандер, гороцвет, кукур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Group 64" descr=""/>
          <p:cNvPicPr/>
          <p:nvPr/>
        </p:nvPicPr>
        <p:blipFill>
          <a:blip r:embed="rId1"/>
          <a:stretch/>
        </p:blipFill>
        <p:spPr>
          <a:xfrm>
            <a:off x="3548160" y="128520"/>
            <a:ext cx="5473440" cy="94464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42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Box 14"/>
          <p:cNvSpPr/>
          <p:nvPr/>
        </p:nvSpPr>
        <p:spPr>
          <a:xfrm>
            <a:off x="179280" y="816120"/>
            <a:ext cx="878544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стоји добра и лоша намирница, већ добар и лош   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начин исхране (СЗО)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произвођач жели да одређени производ, који садрж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иоактивни састојак категорише као намирницу, мора уважит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чињеницу да је производ намењен општој популацији и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особама у популацији са посебним потреб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у да за производ који садржи биоактивни састоја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тоје  научно-засновани докази да доприноси превенциј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или лечењу одређене болести, такав производ се категориш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о лек (прави лекови, биљни препарати, ензимски препара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хомеопатски и традиционални леков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7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4"/>
          <p:cNvSpPr/>
          <p:nvPr/>
        </p:nvSpPr>
        <p:spPr>
          <a:xfrm>
            <a:off x="468360" y="1989000"/>
            <a:ext cx="8136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 и биоактивни пепти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иотици и пребиотиц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зими и коенз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е масне кисели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активни састојци биља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43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Box 14"/>
          <p:cNvSpPr/>
          <p:nvPr/>
        </p:nvSpPr>
        <p:spPr>
          <a:xfrm>
            <a:off x="179280" y="816120"/>
            <a:ext cx="87854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а доступност производа који садрже биоактивне састојк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иљног пор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 употребе (истовремена непријављена употреба с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дијететским суплементи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 rot="20111400">
            <a:off x="582480" y="2738520"/>
            <a:ext cx="78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ВАЛА НА ПАЖЊИ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8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24"/>
          <p:cNvSpPr/>
          <p:nvPr/>
        </p:nvSpPr>
        <p:spPr>
          <a:xfrm>
            <a:off x="468360" y="2205000"/>
            <a:ext cx="8136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ају битну улогу као материје које су неопходне за живот јер су круцијалне за одвијање важних физиолошких проц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3573360"/>
          <a:ext cx="8064720" cy="253044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ЦИЈАЛНЕ АМИНО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ЕСЕНЦИЈАЛНЕ АМИНО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 ЕСЕНЦИЈАЛНЕ АМИНО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фенилалан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вал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треон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триптофан, метионин, леуц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изолеуц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лиз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хисти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алан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аспарагинска киселин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аспараг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 глутамиска киселин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сер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аргин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цисте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 глиц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 глутам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прол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тироз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9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3"/>
          <p:cNvSpPr/>
          <p:nvPr/>
        </p:nvSpPr>
        <p:spPr>
          <a:xfrm>
            <a:off x="539640" y="1916280"/>
            <a:ext cx="80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на азота између ткива (орнитин, цитрул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 инсулина (аргин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ја процеса синтезе ткивних протеина (лиз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рансмисија (глутам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ација протока калцијума (тау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глукозе из ткивних протеина (аланин, глутамин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минокиселине разгранатог ланца – леуцин, изолеуцин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ал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0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4"/>
          <p:cNvSpPr/>
          <p:nvPr/>
        </p:nvSpPr>
        <p:spPr>
          <a:xfrm>
            <a:off x="468360" y="1916280"/>
            <a:ext cx="83516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ски низ, који може бити активиран како б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чествовао у неком физиолошком или патофизиолошко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оцесу, обично постоји као део неког протеина или већег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ептидног молек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активни пептиди (БП) могу бити активирани од стран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аме ћелије или других ћелија из истог или других тк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експресију гена који учествују у модулациј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ктивности БП утичу бројни спољашњи и унутрашњ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факт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1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14"/>
          <p:cNvSpPr/>
          <p:nvPr/>
        </p:nvSpPr>
        <p:spPr>
          <a:xfrm>
            <a:off x="468360" y="1916280"/>
            <a:ext cx="8351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активни пептиди из хуманог млека и млека друг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исара → крвни притисак, агрегацију тромбоцит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тимулацију имуног система, везивање и транспор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инер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v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у показале да пептиди мле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делују на опиоидне рецепторе → расположење, начи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нашања, мотивација, реаговање на стрес и 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2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14"/>
          <p:cNvSpPr/>
          <p:nvPr/>
        </p:nvSpPr>
        <p:spPr>
          <a:xfrm>
            <a:off x="468360" y="1916280"/>
            <a:ext cx="83516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иотик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иво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ља Мечн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 организми који када се унесу у одговарајућој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оличини (као део хране) могу имати повољан утицај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драв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иотици конкуришу за исте рецепторе са патогени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бактеријама те се смањује ризик за кологенизациј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атогенима а у исто време ослобађају антимикроб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једињења (нпр. органске киселине, бактериоцини, слободн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сне киселине, водоник-перокс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0T11:26:47Z</dcterms:created>
  <dc:creator>Dusan</dc:creator>
  <dc:description/>
  <dc:language>en-US</dc:language>
  <cp:lastModifiedBy>user</cp:lastModifiedBy>
  <dcterms:modified xsi:type="dcterms:W3CDTF">2020-09-15T16:07:52Z</dcterms:modified>
  <cp:revision>547</cp:revision>
  <dc:subject/>
  <dc:title>Slide 1</dc:title>
</cp:coreProperties>
</file>